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3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4.jpeg" ContentType="image/jpeg"/>
  <Override PartName="/ppt/media/image23.jpeg" ContentType="image/jpeg"/>
  <Override PartName="/ppt/media/image12.png" ContentType="image/png"/>
  <Override PartName="/ppt/media/image21.png" ContentType="image/png"/>
  <Override PartName="/ppt/media/image19.png" ContentType="image/png"/>
  <Override PartName="/ppt/media/image20.jpeg" ContentType="image/jpeg"/>
  <Override PartName="/ppt/media/image28.jpeg" ContentType="image/jpeg"/>
  <Override PartName="/ppt/media/image18.png" ContentType="image/png"/>
  <Override PartName="/ppt/media/image6.jpeg" ContentType="image/jpeg"/>
  <Override PartName="/ppt/media/image22.jpeg" ContentType="image/jpeg"/>
  <Override PartName="/ppt/media/image9.png" ContentType="image/png"/>
  <Override PartName="/ppt/media/image39.png" ContentType="image/png"/>
  <Override PartName="/ppt/media/image38.png" ContentType="image/png"/>
  <Override PartName="/ppt/media/image8.png" ContentType="image/png"/>
  <Override PartName="/ppt/media/image7.png" ContentType="image/png"/>
  <Override PartName="/ppt/media/image37.png" ContentType="image/png"/>
  <Override PartName="/ppt/media/image27.jpeg" ContentType="image/jpeg"/>
  <Override PartName="/ppt/media/image10.png" ContentType="image/png"/>
  <Override PartName="/ppt/media/image30.png" ContentType="image/png"/>
  <Override PartName="/ppt/media/image11.png" ContentType="image/png"/>
  <Override PartName="/ppt/media/image35.png" ContentType="image/png"/>
  <Override PartName="/ppt/media/image5.jpeg" ContentType="image/jpeg"/>
  <Override PartName="/ppt/media/image26.jpeg" ContentType="image/jpeg"/>
  <Override PartName="/ppt/media/image36.png" ContentType="image/png"/>
  <Override PartName="/ppt/media/image13.jpeg" ContentType="image/jpeg"/>
  <Override PartName="/ppt/media/image34.png" ContentType="image/png"/>
  <Override PartName="/ppt/media/image4.png" ContentType="image/png"/>
  <Override PartName="/ppt/media/image33.png" ContentType="image/png"/>
  <Override PartName="/ppt/media/image3.png" ContentType="image/png"/>
  <Override PartName="/ppt/media/image32.png" ContentType="image/png"/>
  <Override PartName="/ppt/media/image2.png" ContentType="image/png"/>
  <Override PartName="/ppt/media/image25.jpeg" ContentType="image/jpeg"/>
  <Override PartName="/ppt/media/image31.png" ContentType="image/png"/>
  <Override PartName="/ppt/media/image1.png" ContentType="image/png"/>
  <Override PartName="/ppt/media/image14.png" ContentType="image/png"/>
  <Override PartName="/ppt/media/image15.jpeg" ContentType="image/jpeg"/>
  <Override PartName="/ppt/media/image16.jpeg" ContentType="image/jpeg"/>
  <Override PartName="/ppt/media/image17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</p:sldIdLst>
  <p:sldSz cx="9144000" cy="6858000"/>
  <p:notesSz cx="6858000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75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2600" y="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992160" y="731520"/>
            <a:ext cx="4872240" cy="365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260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94526-BF37-4C86-AF3E-178266D65541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992160" y="731880"/>
            <a:ext cx="4872240" cy="36558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3" name="슬라이드 번호 개체 틀 3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5E05F-EC33-4E21-B1F5-FD3DCE103B5A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B96BB-4EE0-48B7-A59D-0F9744DA6771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5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7E122-C3C1-4BD0-AA9C-AAA98D4A3E09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DB858-FDCA-4F2B-B0F3-4EE8EB3EFB2B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1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58E6F-F3DB-4434-A59A-FADA9797BEBA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4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4F00B-1988-479D-B970-B7A10908370D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7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2D249-5834-493F-94FB-6D1A5D7EA788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0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95858-5104-4698-AF93-E818D227D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2F68C-EE9D-41C2-9B56-5BCC3D51A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78235-425E-411B-B688-38400CC29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BF5F3-C519-4FC7-BE64-9C13E714E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1FE73-8D24-4588-B9DB-8F01A7D95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B7D10-59B9-41F5-B233-F8C9C18A1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1734A-97AB-4198-8894-5A20E7CC9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7839C-04C8-4BEB-8641-7B5600D2E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F6B29-A138-4212-BEB5-57749CB91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2C643-6E43-43B5-97B4-5FA1D310A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A7635-1C7D-45C3-9E70-8EE813E22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D93C2-0154-4880-BC2A-CE5702EB1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C1864-1A87-4B3B-8A7D-A5BE17E63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D315C-C510-4EF8-AE9E-0DB5FD962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5DF80-7941-4ED9-8126-229902F8C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FAB9C-3341-4393-B69B-64C8FA3DE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BCB0E-AE75-4B77-B3E8-D4A206ED5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56B8E7-596F-4124-B0D7-1BB872816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6E0849-3AED-4E1A-811F-B20810A6F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437D78-E574-4FC0-865E-3D25FC69F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C274C8-DC57-46BD-9517-B7BA89E5F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7383AC-DF43-4BA6-89E4-844B6B5E5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5F5E3-9179-440A-909C-B336A96B8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22D86B-EF9E-46EC-AED7-E3BCEFA1B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C835A4-DAF3-47BD-96C0-9AFB4AC6C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620932-9247-4A0A-A128-99CCF2EFD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3A5A4E-471E-4C4B-9195-8CA806F62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309CE6-EF3D-4BF2-9B76-A5EFDC63F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DFD6CE-FB36-4076-A061-9F6495F00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B47920-9D3C-4AF6-ABE9-49F2892A7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343192-A317-4F1C-B720-D28AD3AFF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0448D8-1A02-4A08-B2C3-0AA08A1E0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983824-5D5F-45C5-827F-AE3265FE3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00C4C-AF22-4DBA-94D9-47728DE6F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522868-1484-46A4-9403-3C1804383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8F7190-230D-4D88-9704-4804E2EBB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1E107D-7AE6-410B-8DD9-DBD52F070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53D383-5BA0-44B0-B077-76A7D9C2A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7FA7DC-0183-4A21-814B-1F60172DE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7E677A-F68D-445D-A0F6-21713BA57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8B8927-A994-4808-9AE4-EE4B01231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9424F2-D7C7-4D12-B826-B128DB081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5271CA-0C80-4109-ABFD-0E37DA2B9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8A4618-23CC-4817-ADDD-0E81CFE49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43110-F334-41BC-B333-1D322F562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E9A3F9-A177-4306-B129-A98CD77D1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FFEAFD-E024-471A-85F5-C168BAEEA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611DDE-13B4-42DC-BE82-D0B4A701B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373C46-4C40-498C-8E67-FBF900F23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8EB6E4-029D-480A-B40F-E42CCBAE2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039E86-1EB0-4CE8-9044-BFE738EAC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95972F-D60B-420C-BF11-A6AD4A6B0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FF0FFB-B8A6-42B4-8193-9B93BFC1D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71B27B-72E1-4144-9E63-615683FD7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A6E846-C0A4-4E62-958B-625590EE0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B9B35-7EE3-4C3D-A05D-C9C026F52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A0C7F9-D42D-4650-BEAE-AF65EFD58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E393CE-21BA-409E-9BE1-179214906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6FAE51-95CA-476F-A101-86B636BB5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0A3E8E-AA80-4EAB-B4A3-7FD815250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840ACB-E021-44E6-8808-E40278E53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5BD9C0-35FC-40F1-99C2-7836E22A5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414479-E217-4668-8CCF-0C0AF8301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DBA9B3-1AD5-4728-B66A-65AAF737B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AFF16E-0D06-4225-BB91-F3787CEEB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7D9F22-3381-43DB-A489-0063CC505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46725-7C43-45DE-AFCC-575BE6715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094D20-AE7E-4435-920F-2D5688B0B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D41B08-D551-4915-B2A9-24566DDDA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86A18C-E995-4B37-8131-E5135E2B3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97692D-12D6-4130-B019-8E7ED9EC9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418987-1C33-4947-B3D3-85653B74A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777B7E-A11F-4751-A8C8-E3ED542EB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F99B95-B836-4D0B-89D9-7DB0C53BB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EE7637-3C59-470A-B5F7-41A8C71C0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93B5D2-5E60-45E0-A532-BD86667A4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DA75C1-D567-4AE9-B3AA-45ED66A39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3B791-2BA4-42A0-AEA7-969313ACB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7DCDBB-112D-4994-9B40-287410925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F8D7E7-DA36-477A-8AE5-D4A803023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9B2D53-22FB-4DE6-A422-439D5DBBA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4CABDA-8225-4507-864C-1B2D13200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0628FF-DE48-4EB4-903F-BBE549A36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07B0A0-574D-4CB5-B20E-C7A89CB58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DE2A0A-2412-481A-86ED-DA245444C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071627-6700-42C7-9A5F-7AD8F21D5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891B09-7226-45E7-9A85-7BE3A01B6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741FAD-EB37-43BA-9436-065384B8F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BDC02-4F12-4322-94DC-6B008052B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1F2D7D-03FC-4285-AC0D-317731BFC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B36C2C-5474-4FF3-9CFF-D8DC7F7C1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BCBA1A-6A9B-41B7-A5C8-49624203A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3BEE18-15F0-4405-BEA1-D53B190FC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C21761-5208-4899-B005-D8439305C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1E2223-AD19-4F2A-8E38-9D5DD1F75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547599-5E9F-43C2-91CB-CCF3906E2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직각 삼각형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5" name="직선 연결선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D4394-2E91-421B-BC13-39BEF61B3D2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직각 삼각형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8" name="그룹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자유형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0" name="자유형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1" name="자유형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자유형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pic>
          <p:nvPicPr>
            <p:cNvPr id="54" name="직선 연결선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793AC-1AC3-4050-A0DB-2E39606318B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98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직각 삼각형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101" name="직선 연결선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갈매기형 수장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갈매기형 수장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9117A-AC56-425B-B8B0-917DC8BEF50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7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직각 삼각형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150" name="직선 연결선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B7139-4446-48CE-A78C-B9B5C5A546A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D11F8-83CC-4EDB-ACF2-7C03057FC01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35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직각 삼각형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238" name="직선 연결선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62C56-360D-4CC1-A819-7451673CDF6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3DF62-166D-48B6-B01D-929235089BD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자유형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2" name="자유형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323" name="직각 삼각형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직각 삼각형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326" name="직선 연결선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갈매기형 수장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8" name="갈매기형 수장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7F92E-73CF-40A1-A76E-9416C6E1AEF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Rectangle 2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137440" cy="184752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685440" y="3886200"/>
            <a:ext cx="8226360" cy="17524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46"/>
                </a:solidFill>
                <a:latin typeface="Lucida Sans Unicode"/>
              </a:rPr>
              <a:t>                                                  </a:t>
            </a:r>
            <a:r>
              <a:rPr b="0" lang="en-US" sz="2200" spc="-1" strike="noStrike">
                <a:solidFill>
                  <a:srgbClr val="464646"/>
                </a:solidFill>
                <a:latin typeface="HY강B"/>
                <a:ea typeface="HY강B"/>
              </a:rPr>
              <a:t>5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조 김보기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조원준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강경구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하수은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신한별 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457200" y="1241280"/>
            <a:ext cx="8229600" cy="476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톨루엔 성분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포름알데히드 함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벤젠의 수소원자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개를 메틸기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基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로 치환한 화합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무색의 액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석탄을 건류하여 얻은 경유를 황산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으로 씻은 다음 정류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精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)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하여 만듬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피부 보호막 녹이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 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피부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두통 일으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중추신경 장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혼수상태 등 유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0" name="Rectangle 2" descr=""/>
          <p:cNvPicPr/>
          <p:nvPr/>
        </p:nvPicPr>
        <p:blipFill>
          <a:blip r:embed="rId1"/>
          <a:stretch/>
        </p:blipFill>
        <p:spPr>
          <a:xfrm>
            <a:off x="360360" y="268200"/>
            <a:ext cx="833292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 txBox="1"/>
          <p:nvPr/>
        </p:nvSpPr>
        <p:spPr>
          <a:xfrm>
            <a:off x="272880" y="1323720"/>
            <a:ext cx="8413920" cy="480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포름알데히드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함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메탄올을 산화시켜 얻는 기체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로자극적인  냄새 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환원성이 강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알레르기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접촉성 피부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두드러기 등 일으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결막에 큰 자극줌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2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 txBox="1"/>
          <p:nvPr/>
        </p:nvSpPr>
        <p:spPr>
          <a:xfrm>
            <a:off x="457200" y="122868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접착부분이 화학성분으로 이루어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짐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포름알데히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(Formaldehyde)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검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눈두덩 피부를 자극하여 염증이 생기거나  색소침착이 생겨 단단하게 만듬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장기간 사용할 경우 피부가 늘어지게 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려움증으로 눈이 빨갛게 충혈되는 현상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발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4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고정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가발 망의 실리콘 테두리를 이용하여 두피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에 고정하는 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탈 부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의료용 양면 테이프를 이용하여 고정하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는 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혼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특수 제작된 패치를 이용하여 자신의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모발이나 두피에 부착하는 다기능 부착공법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6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 txBox="1"/>
          <p:nvPr/>
        </p:nvSpPr>
        <p:spPr>
          <a:xfrm>
            <a:off x="457200" y="2101320"/>
            <a:ext cx="4038480" cy="40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408" name="Picture 5" descr="http://cfs12.blog.daum.net/original/16/blog/2008/02/19/12/11/47ba48c55d83c&amp;filename=DSC00419.JPG"/>
          <p:cNvPicPr/>
          <p:nvPr/>
        </p:nvPicPr>
        <p:blipFill>
          <a:blip r:embed="rId1"/>
          <a:stretch/>
        </p:blipFill>
        <p:spPr>
          <a:xfrm>
            <a:off x="4681440" y="1346040"/>
            <a:ext cx="3784680" cy="4534200"/>
          </a:xfrm>
          <a:prstGeom prst="rect">
            <a:avLst/>
          </a:prstGeom>
          <a:ln w="0">
            <a:noFill/>
          </a:ln>
        </p:spPr>
      </p:pic>
      <p:pic>
        <p:nvPicPr>
          <p:cNvPr id="409" name="제목 11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17" descr="5409209782"/>
          <p:cNvPicPr/>
          <p:nvPr/>
        </p:nvPicPr>
        <p:blipFill>
          <a:blip r:embed="rId3"/>
          <a:stretch/>
        </p:blipFill>
        <p:spPr>
          <a:xfrm>
            <a:off x="457200" y="1346040"/>
            <a:ext cx="4224240" cy="478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눈이 가늘고 좁은 경우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속눈썹길이 반으로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잘라 눈썹 끝에만 붙임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속 쌍꺼풀인 경우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속눈썹길이 반보다 길게 잘   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라 눈앞머리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1/3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띄우고 붙임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눈에 힘이 없고 라인이 분명 하지 않은 경우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부분속눈썹을 전체적으로 붙임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2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Picture 7" descr="1111"/>
          <p:cNvPicPr/>
          <p:nvPr/>
        </p:nvPicPr>
        <p:blipFill>
          <a:blip r:embed="rId1"/>
          <a:stretch/>
        </p:blipFill>
        <p:spPr>
          <a:xfrm>
            <a:off x="457200" y="1855800"/>
            <a:ext cx="3695760" cy="352116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9" descr="이미지 썸네일"/>
          <p:cNvPicPr/>
          <p:nvPr/>
        </p:nvPicPr>
        <p:blipFill>
          <a:blip r:embed="rId2"/>
          <a:stretch/>
        </p:blipFill>
        <p:spPr>
          <a:xfrm>
            <a:off x="4152960" y="1855800"/>
            <a:ext cx="4295880" cy="3521160"/>
          </a:xfrm>
          <a:prstGeom prst="rect">
            <a:avLst/>
          </a:prstGeom>
          <a:ln w="0">
            <a:noFill/>
          </a:ln>
        </p:spPr>
      </p:pic>
      <p:pic>
        <p:nvPicPr>
          <p:cNvPr id="415" name="Rectangle 5" descr=""/>
          <p:cNvPicPr/>
          <p:nvPr/>
        </p:nvPicPr>
        <p:blipFill>
          <a:blip r:embed="rId3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 txBox="1"/>
          <p:nvPr/>
        </p:nvSpPr>
        <p:spPr>
          <a:xfrm>
            <a:off x="457200" y="1599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7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1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19" name="Picture 3" descr="C:\Documents and Settings\user\바탕 화면\1.JPG"/>
          <p:cNvPicPr/>
          <p:nvPr/>
        </p:nvPicPr>
        <p:blipFill>
          <a:blip r:embed="rId2"/>
          <a:stretch/>
        </p:blipFill>
        <p:spPr>
          <a:xfrm>
            <a:off x="1986120" y="2219400"/>
            <a:ext cx="5171760" cy="161604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4" descr="C:\Documents and Settings\user\바탕 화면\2.JPG"/>
          <p:cNvPicPr/>
          <p:nvPr/>
        </p:nvPicPr>
        <p:blipFill>
          <a:blip r:embed="rId3"/>
          <a:stretch/>
        </p:blipFill>
        <p:spPr>
          <a:xfrm>
            <a:off x="1986120" y="3835440"/>
            <a:ext cx="5171760" cy="16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1" descr="C:\Documents and Settings\user\바탕 화면\3.JPG"/>
          <p:cNvPicPr/>
          <p:nvPr/>
        </p:nvPicPr>
        <p:blipFill>
          <a:blip r:embed="rId2"/>
          <a:stretch/>
        </p:blipFill>
        <p:spPr>
          <a:xfrm>
            <a:off x="457200" y="1663560"/>
            <a:ext cx="5229360" cy="144936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2" descr="C:\Documents and Settings\user\바탕 화면\4.JPG"/>
          <p:cNvPicPr/>
          <p:nvPr/>
        </p:nvPicPr>
        <p:blipFill>
          <a:blip r:embed="rId3"/>
          <a:stretch/>
        </p:blipFill>
        <p:spPr>
          <a:xfrm>
            <a:off x="2335320" y="1663560"/>
            <a:ext cx="5200560" cy="1449360"/>
          </a:xfrm>
          <a:prstGeom prst="rect">
            <a:avLst/>
          </a:prstGeom>
          <a:ln w="0">
            <a:noFill/>
          </a:ln>
        </p:spPr>
      </p:pic>
      <p:sp>
        <p:nvSpPr>
          <p:cNvPr id="424" name="TextBox 6"/>
          <p:cNvSpPr/>
          <p:nvPr/>
        </p:nvSpPr>
        <p:spPr>
          <a:xfrm>
            <a:off x="457200" y="3421080"/>
            <a:ext cx="82296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붙일 위치를 깨끗이 닦아 쌍 커풀 라인 위치 잡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2. Y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자 스틱을 투명테이프에 반 정도 붙여 테이프를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살짝</a:t>
            </a: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눌러줌</a:t>
            </a: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3. Y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자 스틱으로 쌍 커풀 테이프를 눌러 라인 형성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하여 안정이 되게 함</a:t>
            </a: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 txBox="1"/>
          <p:nvPr/>
        </p:nvSpPr>
        <p:spPr>
          <a:xfrm>
            <a:off x="177480" y="1187280"/>
            <a:ext cx="8761320" cy="481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1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클립으로 탈착 할수 있는 형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필요와 사용목적에 따라 클립을 사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1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머리핀을 이용한 인조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머리 치장을 위해 모발 염색을 해야하는 불편함과 모발손상을 없애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모발 어느 위치에도 간편하게 다양한 칼라의 머리카락을 위치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개성 있게 표현할 수 있음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6" name="제목 8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7200" y="1143000"/>
            <a:ext cx="40384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접착 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1.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미용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가발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인조속눈썹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아이참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1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이용 목적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2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종류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3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접착 성분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4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유해물질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5)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착용방법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과정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6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해결방안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Lucida Sans Unicode"/>
              </a:rPr>
              <a:t>               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648320" y="1143000"/>
            <a:ext cx="40384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2.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식품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: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푸드바인드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멜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    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라민파동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1)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피해사례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2)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해결방안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81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속눈썹연장세럼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자연성분인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펩타이드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 주원료로 부작용없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효과가 확실하며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주 정도 사용으로 확실하게 달라진 속눈썹을 느낄 수 있음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펩타이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미노산의 중합체임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소수의 아미노산이 연결된 형태→ 펩티드많은 아미노산이 연결→단백질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8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피부가 쳐지는 경향이 있으므로 가능하면 사용을 자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매몰 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절개 법 시술로 비용은 들지만 효과는 아이참 보다 배로 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0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 txBox="1"/>
          <p:nvPr/>
        </p:nvSpPr>
        <p:spPr>
          <a:xfrm>
            <a:off x="627120" y="2169720"/>
            <a:ext cx="8229600" cy="364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Lucida Sans Unicode"/>
              </a:rPr>
              <a:t>                               </a:t>
            </a:r>
            <a:endParaRPr b="0" lang="en-US" sz="5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5400" spc="-1" strike="noStrike">
                <a:solidFill>
                  <a:srgbClr val="000000"/>
                </a:solidFill>
                <a:latin typeface="HY강B"/>
                <a:ea typeface="HY강B"/>
              </a:rPr>
              <a:t>푸드바인드</a:t>
            </a:r>
            <a:r>
              <a:rPr b="0" lang="en-US" sz="54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5400" spc="-1" strike="noStrike">
                <a:solidFill>
                  <a:srgbClr val="000000"/>
                </a:solidFill>
                <a:latin typeface="HY강B"/>
                <a:ea typeface="HY강B"/>
              </a:rPr>
              <a:t>멜라민파동</a:t>
            </a: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2" name="제목 2" descr=""/>
          <p:cNvPicPr/>
          <p:nvPr/>
        </p:nvPicPr>
        <p:blipFill>
          <a:blip r:embed="rId1"/>
          <a:stretch/>
        </p:blipFill>
        <p:spPr>
          <a:xfrm>
            <a:off x="622440" y="2724120"/>
            <a:ext cx="824040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34" name="AutoShape 3"/>
          <p:cNvSpPr/>
          <p:nvPr/>
        </p:nvSpPr>
        <p:spPr>
          <a:xfrm>
            <a:off x="1143000" y="2825640"/>
            <a:ext cx="2765520" cy="2073240"/>
          </a:xfrm>
          <a:prstGeom prst="roundRect">
            <a:avLst>
              <a:gd name="adj" fmla="val 6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5" name="AutoShape 5"/>
          <p:cNvSpPr/>
          <p:nvPr/>
        </p:nvSpPr>
        <p:spPr>
          <a:xfrm>
            <a:off x="990720" y="2825640"/>
            <a:ext cx="2765160" cy="20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36" name="foodbind.avi" descr=""/>
          <p:cNvPicPr/>
          <p:nvPr/>
        </p:nvPicPr>
        <p:blipFill>
          <a:blip r:embed="rId2"/>
          <a:stretch/>
        </p:blipFill>
        <p:spPr>
          <a:xfrm>
            <a:off x="3048120" y="260028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1334" fill="hold"/>
                                        <p:tgtEl>
                                          <p:spTgt spid="4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435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435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4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" restart="whenNotActive" nodeType="interactiveSeq" fill="hold">
                <p:stCondLst>
                  <p:cond evt="onClick">
                    <p:tgtEl>
                      <p:spTgt spid="436"/>
                    </p:tgtEl>
                  </p:cond>
                </p:stCondLst>
                <p:childTnLst>
                  <p:par>
                    <p:cTn id="13" fill="hold">
                      <p:stCondLst>
                        <p:cond evt="onClick">
                          <p:tgtEl>
                            <p:spTgt spid="436"/>
                          </p:tgtEl>
                        </p:cond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6" dur="1" fill="hold"/>
                                        <p:tgtEl>
                                          <p:spTgt spid="4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Rectangle 1" descr=""/>
          <p:cNvPicPr/>
          <p:nvPr/>
        </p:nvPicPr>
        <p:blipFill>
          <a:blip r:embed="rId1"/>
          <a:stretch/>
        </p:blipFill>
        <p:spPr>
          <a:xfrm>
            <a:off x="195120" y="285840"/>
            <a:ext cx="8498160" cy="1098360"/>
          </a:xfrm>
          <a:prstGeom prst="rect">
            <a:avLst/>
          </a:prstGeom>
          <a:ln w="0">
            <a:noFill/>
          </a:ln>
        </p:spPr>
      </p:pic>
      <p:sp>
        <p:nvSpPr>
          <p:cNvPr id="438" name="PlaceHolder 1"/>
          <p:cNvSpPr>
            <a:spLocks noGrp="1"/>
          </p:cNvSpPr>
          <p:nvPr>
            <p:ph/>
          </p:nvPr>
        </p:nvSpPr>
        <p:spPr>
          <a:xfrm>
            <a:off x="457200" y="1604520"/>
            <a:ext cx="82281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계란흰자분말과감자전분등이 주원료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잘게 부숴진 고기를 결합시키는 용도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고가의 갈비를 정상적인방법으로 위생적으로 조리할때 사용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인체에는 무해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40" name="PlaceHolder 1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해결방안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생갈비와 접착갈비 법적구분을 정확하게 제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집중단속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축산물가공처리 법과 시행규칙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농림부 고시 등 관계 법령을 수정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42" name="AutoShape 3"/>
          <p:cNvSpPr/>
          <p:nvPr/>
        </p:nvSpPr>
        <p:spPr>
          <a:xfrm>
            <a:off x="1143000" y="2940120"/>
            <a:ext cx="2765520" cy="2073240"/>
          </a:xfrm>
          <a:prstGeom prst="roundRect">
            <a:avLst>
              <a:gd name="adj" fmla="val 6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3" name="AutoShape 5"/>
          <p:cNvSpPr/>
          <p:nvPr/>
        </p:nvSpPr>
        <p:spPr>
          <a:xfrm>
            <a:off x="1143000" y="2940120"/>
            <a:ext cx="2765520" cy="20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44" name="mel.avi" descr=""/>
          <p:cNvPicPr/>
          <p:nvPr/>
        </p:nvPicPr>
        <p:blipFill>
          <a:blip r:embed="rId2"/>
          <a:stretch/>
        </p:blipFill>
        <p:spPr>
          <a:xfrm>
            <a:off x="3048120" y="260028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" dur="39267" fill="hold"/>
                                        <p:tgtEl>
                                          <p:spTgt spid="4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" restart="whenNotActive" nodeType="interactiveSeq" fill="hold">
                <p:stCondLst>
                  <p:cond evt="onClick">
                    <p:tgtEl>
                      <p:spTgt spid="443"/>
                    </p:tgtEl>
                  </p:cond>
                </p:stCondLst>
                <p:childTnLst>
                  <p:par>
                    <p:cTn id="24" fill="hold">
                      <p:stCondLst>
                        <p:cond evt="onClick">
                          <p:tgtEl>
                            <p:spTgt spid="443"/>
                          </p:tgtEl>
                        </p:cond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7" dur="1" fill="hold"/>
                                        <p:tgtEl>
                                          <p:spTgt spid="4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" restart="whenNotActive" nodeType="interactiveSeq" fill="hold">
                <p:stCondLst>
                  <p:cond evt="onClick">
                    <p:tgtEl>
                      <p:spTgt spid="444"/>
                    </p:tgtEl>
                  </p:cond>
                </p:stCondLst>
                <p:childTnLst>
                  <p:par>
                    <p:cTn id="29" fill="hold">
                      <p:stCondLst>
                        <p:cond evt="onClick">
                          <p:tgtEl>
                            <p:spTgt spid="444"/>
                          </p:tgtEl>
                        </p:cond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2" dur="1" fill="hold"/>
                                        <p:tgtEl>
                                          <p:spTgt spid="4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46" name="PlaceHolder 1"/>
          <p:cNvSpPr>
            <a:spLocks noGrp="1"/>
          </p:cNvSpPr>
          <p:nvPr>
            <p:ph/>
          </p:nvPr>
        </p:nvSpPr>
        <p:spPr>
          <a:xfrm>
            <a:off x="457200" y="1419120"/>
            <a:ext cx="8228160" cy="471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신장결석이나 신부전증 환자가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53,000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명이 발생하였고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이 중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12,800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명은 입원치료를 받고 있으며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4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명의 유아가 사망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멜라민은 우유에 첨가할 경우 단백질의 함유량을 실제보다 부풀릴 수 있기에 사용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중국산 식품에 대한 신뢰도 큰 타격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7" name="Rectangle 1" descr=""/>
          <p:cNvPicPr/>
          <p:nvPr/>
        </p:nvPicPr>
        <p:blipFill>
          <a:blip r:embed="rId1"/>
          <a:stretch/>
        </p:blipFill>
        <p:spPr>
          <a:xfrm>
            <a:off x="195120" y="285840"/>
            <a:ext cx="8498160" cy="1098360"/>
          </a:xfrm>
          <a:prstGeom prst="rect">
            <a:avLst/>
          </a:prstGeom>
          <a:ln w="0">
            <a:noFill/>
          </a:ln>
        </p:spPr>
      </p:pic>
      <p:sp>
        <p:nvSpPr>
          <p:cNvPr id="448" name="PlaceHolder 1"/>
          <p:cNvSpPr>
            <a:spLocks noGrp="1"/>
          </p:cNvSpPr>
          <p:nvPr>
            <p:ph/>
          </p:nvPr>
        </p:nvSpPr>
        <p:spPr>
          <a:xfrm>
            <a:off x="457200" y="1604520"/>
            <a:ext cx="82281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해결방안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정부가 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위해 요소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와 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품질 관리 요소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를 명확히 구분해 정책을 수립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집행 해야함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식품안전처와 같은 제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의 독립기구 설립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제목 3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089920" cy="1841400"/>
          </a:xfrm>
          <a:prstGeom prst="rect">
            <a:avLst/>
          </a:prstGeom>
          <a:ln w="0">
            <a:noFill/>
          </a:ln>
        </p:spPr>
      </p:pic>
      <p:sp>
        <p:nvSpPr>
          <p:cNvPr id="450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27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제목 4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089920" cy="1841400"/>
          </a:xfrm>
          <a:prstGeom prst="rect">
            <a:avLst/>
          </a:prstGeom>
          <a:ln w="0">
            <a:noFill/>
          </a:ln>
        </p:spPr>
      </p:pic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464646"/>
                </a:solidFill>
                <a:latin typeface="HY강B"/>
                <a:ea typeface="HY강B"/>
              </a:rPr>
              <a:t>가발</a:t>
            </a:r>
            <a:r>
              <a:rPr b="0" lang="en-US" sz="4000" spc="-1" strike="noStrike">
                <a:solidFill>
                  <a:srgbClr val="464646"/>
                </a:solidFill>
                <a:latin typeface="HY강B"/>
                <a:ea typeface="HY강B"/>
              </a:rPr>
              <a:t>,</a:t>
            </a:r>
            <a:r>
              <a:rPr b="0" lang="ko-KR" sz="4000" spc="-1" strike="noStrike">
                <a:solidFill>
                  <a:srgbClr val="464646"/>
                </a:solidFill>
                <a:latin typeface="HY강B"/>
                <a:ea typeface="HY강B"/>
              </a:rPr>
              <a:t>인조속눈썹</a:t>
            </a:r>
            <a:r>
              <a:rPr b="0" lang="en-US" sz="4000" spc="-1" strike="noStrike">
                <a:solidFill>
                  <a:srgbClr val="464646"/>
                </a:solidFill>
                <a:latin typeface="HY강B"/>
                <a:ea typeface="HY강B"/>
              </a:rPr>
              <a:t>,</a:t>
            </a:r>
            <a:r>
              <a:rPr b="0" lang="ko-KR" sz="4000" spc="-1" strike="noStrike">
                <a:solidFill>
                  <a:srgbClr val="464646"/>
                </a:solidFill>
                <a:latin typeface="HY강B"/>
                <a:ea typeface="HY강B"/>
              </a:rPr>
              <a:t>아이참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456840" y="1143000"/>
            <a:ext cx="8427960" cy="523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분장용이나 장식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무대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·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연예용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·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의례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·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법관용 등 특종 직업용 사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속눈썹숱이적어 마스카라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효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보지못하는사람위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쌍커풀이 없거나 쌍커풀선이 약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사람들이 이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5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탈모용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전체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부분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패션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악세서리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연극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마네킹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코스프레용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의료용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익스텐션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짧은머리를 긴머리로바꾸는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붙임머리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7" name="Rectangle 2" descr=""/>
          <p:cNvPicPr/>
          <p:nvPr/>
        </p:nvPicPr>
        <p:blipFill>
          <a:blip r:embed="rId1"/>
          <a:stretch/>
        </p:blipFill>
        <p:spPr>
          <a:xfrm>
            <a:off x="360360" y="268200"/>
            <a:ext cx="833292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형태별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눈썹의 양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길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색상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심는형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눈썹의 숱 많이 표현 하고자       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하는부위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굵고 긴 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굵고 짧은 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얇고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긴 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얇고 짧은 형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9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Picture 4" descr="접착제"/>
          <p:cNvPicPr/>
          <p:nvPr/>
        </p:nvPicPr>
        <p:blipFill>
          <a:blip r:embed="rId1"/>
          <a:stretch/>
        </p:blipFill>
        <p:spPr>
          <a:xfrm>
            <a:off x="763560" y="1600200"/>
            <a:ext cx="3398760" cy="452592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 txBox="1"/>
          <p:nvPr/>
        </p:nvSpPr>
        <p:spPr>
          <a:xfrm>
            <a:off x="4162320" y="1600200"/>
            <a:ext cx="4694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HY강B"/>
                <a:ea typeface="HY강B"/>
              </a:rPr>
              <a:t>: </a:t>
            </a:r>
            <a:r>
              <a:rPr b="0" lang="ko-KR" sz="3200" spc="-1" strike="noStrike" u="sng">
                <a:solidFill>
                  <a:srgbClr val="ffffff"/>
                </a:solidFill>
                <a:uFillTx/>
                <a:latin typeface="HY강B"/>
                <a:ea typeface="HY강B"/>
              </a:rPr>
              <a:t>노테이프본드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실리콘접착제로 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고정부착형가발에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사용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, 2-3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주이상의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강한접착력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92" name="제목 1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내용 개체 틀 10" descr="5482855381.jpg"/>
          <p:cNvPicPr/>
          <p:nvPr/>
        </p:nvPicPr>
        <p:blipFill>
          <a:blip r:embed="rId1"/>
          <a:stretch/>
        </p:blipFill>
        <p:spPr>
          <a:xfrm>
            <a:off x="846000" y="2033640"/>
            <a:ext cx="3206880" cy="3562200"/>
          </a:xfrm>
          <a:prstGeom prst="rect">
            <a:avLst/>
          </a:prstGeom>
          <a:ln w="0">
            <a:noFill/>
          </a:ln>
        </p:spPr>
      </p:pic>
      <p:sp>
        <p:nvSpPr>
          <p:cNvPr id="394" name=""/>
          <p:cNvSpPr txBox="1"/>
          <p:nvPr/>
        </p:nvSpPr>
        <p:spPr>
          <a:xfrm>
            <a:off x="4340160" y="1600200"/>
            <a:ext cx="4346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인조속눈썹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 u="sng">
                <a:solidFill>
                  <a:srgbClr val="ffffff"/>
                </a:solidFill>
                <a:uFillTx/>
                <a:latin typeface="HY강B"/>
                <a:ea typeface="HY강B"/>
              </a:rPr>
              <a:t>글루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접착제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i="1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아세트산비닐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i="1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수지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로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독성이없어 안전하며 마른후에도 씻어낼수있음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95" name="제목 6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 txBox="1"/>
          <p:nvPr/>
        </p:nvSpPr>
        <p:spPr>
          <a:xfrm>
            <a:off x="4648320" y="1582200"/>
            <a:ext cx="40384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3.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아이참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양면성 테이프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점착제가 발라져 있음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풀이나 고무풀 등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97" name="내용 개체 틀 4" descr="123.jpg"/>
          <p:cNvPicPr/>
          <p:nvPr/>
        </p:nvPicPr>
        <p:blipFill>
          <a:blip r:embed="rId1"/>
          <a:stretch/>
        </p:blipFill>
        <p:spPr>
          <a:xfrm>
            <a:off x="287280" y="2224080"/>
            <a:ext cx="4038480" cy="2735280"/>
          </a:xfrm>
          <a:prstGeom prst="rect">
            <a:avLst/>
          </a:prstGeom>
          <a:ln w="0">
            <a:noFill/>
          </a:ln>
        </p:spPr>
      </p:pic>
      <p:pic>
        <p:nvPicPr>
          <p:cNvPr id="398" name="제목 1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1T12:28:52Z</dcterms:created>
  <dc:creator>sec</dc:creator>
  <dc:description/>
  <dc:language>en-US</dc:language>
  <cp:lastModifiedBy>sec</cp:lastModifiedBy>
  <dcterms:modified xsi:type="dcterms:W3CDTF">2009-12-02T04:33:16Z</dcterms:modified>
  <cp:revision>29</cp:revision>
  <dc:subject/>
  <dc:title>등잔밑이 어둡다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0</vt:r8>
  </property>
</Properties>
</file>